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12.png" ContentType="image/png"/>
  <Override PartName="/ppt/media/image20.jpeg" ContentType="image/jpeg"/>
  <Override PartName="/ppt/media/image23.wmf" ContentType="image/x-wmf"/>
  <Override PartName="/ppt/media/image6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6.jpeg" ContentType="image/jpeg"/>
  <Override PartName="/ppt/media/image14.wmf" ContentType="image/x-wmf"/>
  <Override PartName="/ppt/media/image1.jpeg" ContentType="image/jpeg"/>
  <Override PartName="/ppt/media/image22.jpeg" ContentType="image/jpeg"/>
  <Override PartName="/ppt/media/image11.wmf" ContentType="image/x-wmf"/>
  <Override PartName="/ppt/media/image17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E512-7C0D-44D3-A0EA-D048CB0AF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53AC-73CF-4E68-9E63-A24E0EE94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C230D5-EEB4-4E27-8484-9C1FA4F32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3EFDC4-ACF1-4A7A-831A-EC08C388A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791209-E634-4217-BF81-1D98A7F70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0D3455-C337-4AAD-957B-BBB5690C1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5CDBD0-0690-43DF-AD5F-9D871FBFC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5124-94AB-4BC6-96DB-7306DC180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3176A0-840C-45E5-8B28-84F6B9B61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5858-CE1F-430C-B796-AF39BB509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8D27DC-4FB3-4C4A-90A1-DA1A46BCD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7D60B0-9280-43CA-8243-604C0B06F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D1ACF9-5D9B-4CF0-A95B-B7D866B5C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E7BB96D-C656-4B04-81EB-B4D39BFA3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14F59A-D027-449B-A309-64DFE73CF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728133-2F7F-4D1B-B82A-E9F63923C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0254-DB2A-4AD1-AE81-49227CCFF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42D6-030D-4BE7-BE61-73B140BA1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677DDA-1D62-4ECC-86BE-CB7845034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72AE55-0441-499F-B7D3-56A878060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BE2DEC-0FAA-4C83-874D-BCB9D2556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B2FD9C-3DAA-4ADB-834B-9D300D7C1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4BD7E6-7564-4523-97E5-E900A4D7E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6DF4DA-9C0B-4185-AF3E-9EE0760CA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5C9BEB-8164-46D6-A174-F078F71DBBCC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23558D-7F8A-43DC-A6B2-9308217C1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4A75ED-0040-4040-997C-4F155599B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43B9-0D2E-4415-8951-AA5BC14F2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FFEFE4-3623-459D-BC74-2A67503A9A4C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CC863F-CF34-4271-892C-E748D59DF2D9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E81F1A-B6F5-43E5-A8BD-276E577E5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33E2-7305-48F4-87C3-21301A431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DCFE1B-ED2E-42F5-936D-76A8CAB52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A389C4-545D-41AB-A51B-BB5C1B309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912F72-54BA-46F9-A921-E0BDB62C0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BD8C03-C8EB-4F44-9508-906DEEE43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0CBC92-EEC9-48FA-8DB1-25234BFE1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EAF6-BDCB-4380-B4D6-B5DEF4979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BE22-496C-4580-AFA2-28FDFA5D4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2E7824-5CB6-4E1D-8F0F-83D4A7AF1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E731-0C40-4B51-AD2E-7FB9FE084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F2825-CD45-4AE6-AAF1-FD28D126F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202C5-1B4F-4468-9D3C-42256C81F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A508A-EDDE-46D2-9B1D-88E507C61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535D9-E74C-4AE0-B5F8-D8BAE9C47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F0EC4-8FBC-4D2B-A3E6-CEAA3F6B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F09FF-C38B-45F4-A2F6-9825633D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7DBCD-BF8B-4C24-92AD-DADE5025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6807D-76D7-4665-BF5A-55D2C6B4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4D02B-13A7-456B-A092-51AC78C3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5084E-C821-444F-B460-0E89099E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94E7E-47CB-4810-84AB-FEF2C60C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66EE2-3B6C-4B05-8FDA-541738726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BA85F-BDC5-475F-A967-A33F98AC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E3DEF-73B5-49B1-9CE0-2CBC9F10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E92A9-BD7F-428B-BB93-136716F3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DE4C0-FEB7-4FC5-928A-938BAA39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6DEC2-AFCC-4EC2-A756-A99EBEA3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ABDB9-0577-437B-B6AD-F8B2A16E5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914DC-6F72-45CC-AEFF-C3259DA6D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180E3-F91B-4A1F-BF24-C956A4FAB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43D5B-6EEE-41E3-9814-FFC3033FF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E15C8-AAFC-4CF3-8046-AF96F701A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BEA9D-83C9-4C38-9B00-B38345F83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33818-362B-46E6-8D81-FD02A08E5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A4F8-7108-462C-848D-CFAD0A192E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B4A4-745C-45AB-A26E-1253A99F51DF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F05C-7CBC-4766-B792-786C80C8D1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2666880" y="190512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800"/>
            </a:b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Qualité pour les tests quantita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57D9-9C07-4256-A6A0-4A6E29F324E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55ED-14D0-47E3-94F4-8B09D7E229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ypes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vent être congelés, lyophilisés, ou conservés chimiqu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e reconstitution très exacte si cette étape es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4" descr="pipetting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17DA-B567-4150-A07C-FDB0C7C334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rigines d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rcialement préparé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s sur pl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tenus auprès d’un autre laboratoire, en général laboratoire central ou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60DC-C2C1-489A-81BC-FE13C545E2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1219320"/>
          <a:ext cx="8610480" cy="466560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cible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érifier puis utili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 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ble non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xigé avant utili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 Maison 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érums maison mélangés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t vali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051F-453A-4964-B721-B0989AB0E2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hoisir l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alement disponibles en valeur normale, pathologique haute et pathologique bas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Untitled-3"/>
          <p:cNvPicPr/>
          <p:nvPr/>
        </p:nvPicPr>
        <p:blipFill>
          <a:blip r:embed="rId1"/>
          <a:stretch/>
        </p:blipFill>
        <p:spPr>
          <a:xfrm>
            <a:off x="3048120" y="3456000"/>
            <a:ext cx="46479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9F17-D76E-4B7A-8BC0-8EFE35043E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Préparation et stockage des contrôl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dhérer aux instructions du fabric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a quantité adéquate du même numéro de lo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correc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183" descr="Bottle"/>
          <p:cNvPicPr/>
          <p:nvPr/>
        </p:nvPicPr>
        <p:blipFill>
          <a:blip r:embed="rId1"/>
          <a:stretch/>
        </p:blipFill>
        <p:spPr>
          <a:xfrm>
            <a:off x="5486400" y="4876920"/>
            <a:ext cx="89676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7"/>
          <p:cNvSpPr/>
          <p:nvPr/>
        </p:nvSpPr>
        <p:spPr>
          <a:xfrm rot="18999600">
            <a:off x="5790960" y="4114440"/>
            <a:ext cx="1098360" cy="53352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DE28-1100-4ED0-94E1-F63C2CD646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Étapes de la mise en oeuvre du CQ quantitatif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btenir le matériel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er le contrôle 20 fois sur 30 j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lculer la moyenne , l’écart type et 1S, 2S, 3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61"/>
          <p:cNvGrpSpPr/>
          <p:nvPr/>
        </p:nvGrpSpPr>
        <p:grpSpPr>
          <a:xfrm>
            <a:off x="4724280" y="1828800"/>
            <a:ext cx="4054680" cy="4835880"/>
            <a:chOff x="4724280" y="1828800"/>
            <a:chExt cx="4054680" cy="4835880"/>
          </a:xfrm>
        </p:grpSpPr>
        <p:sp>
          <p:nvSpPr>
            <p:cNvPr id="222" name="Line 23"/>
            <p:cNvSpPr/>
            <p:nvPr/>
          </p:nvSpPr>
          <p:spPr>
            <a:xfrm>
              <a:off x="727488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4"/>
            <p:cNvSpPr/>
            <p:nvPr/>
          </p:nvSpPr>
          <p:spPr>
            <a:xfrm>
              <a:off x="699912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699912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6"/>
            <p:cNvSpPr/>
            <p:nvPr/>
          </p:nvSpPr>
          <p:spPr>
            <a:xfrm>
              <a:off x="699912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7692840" y="496728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Moyen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732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5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3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60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2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30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61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88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7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248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ine 56"/>
            <p:cNvSpPr/>
            <p:nvPr/>
          </p:nvSpPr>
          <p:spPr>
            <a:xfrm>
              <a:off x="699912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57"/>
            <p:cNvSpPr/>
            <p:nvPr/>
          </p:nvSpPr>
          <p:spPr>
            <a:xfrm>
              <a:off x="699912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58"/>
            <p:cNvSpPr/>
            <p:nvPr/>
          </p:nvSpPr>
          <p:spPr>
            <a:xfrm>
              <a:off x="699912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9"/>
            <p:cNvSpPr/>
            <p:nvPr/>
          </p:nvSpPr>
          <p:spPr>
            <a:xfrm>
              <a:off x="699912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8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36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60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56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84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732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8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60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48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3000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84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36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36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3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85"/>
            <p:cNvSpPr/>
            <p:nvPr/>
          </p:nvSpPr>
          <p:spPr>
            <a:xfrm>
              <a:off x="7752240" y="44578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91"/>
            <p:cNvSpPr/>
            <p:nvPr/>
          </p:nvSpPr>
          <p:spPr>
            <a:xfrm>
              <a:off x="7752240" y="55382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2"/>
            <p:cNvSpPr/>
            <p:nvPr/>
          </p:nvSpPr>
          <p:spPr>
            <a:xfrm>
              <a:off x="7752240" y="40834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3"/>
            <p:cNvSpPr/>
            <p:nvPr/>
          </p:nvSpPr>
          <p:spPr>
            <a:xfrm>
              <a:off x="7752240" y="35744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4"/>
            <p:cNvSpPr/>
            <p:nvPr/>
          </p:nvSpPr>
          <p:spPr>
            <a:xfrm>
              <a:off x="7752240" y="59018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5"/>
            <p:cNvSpPr/>
            <p:nvPr/>
          </p:nvSpPr>
          <p:spPr>
            <a:xfrm>
              <a:off x="7752240" y="62658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C0FD-D95B-4E90-A243-DA37182315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 de la fluctu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 fluctuation est un évènement normal quand un contrôle est testé de façon répét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ffectée par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533520" y="3048120"/>
            <a:ext cx="228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chnique  opératoi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19520" y="28954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ditions  environne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114960" y="2971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ractéristiques des performances de l’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Verdana"/>
              </a:rPr>
              <a:t>Le but est de différencier la fluctuation due au hasard de celle due à une err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8459-48FC-497B-A33B-7F63CF22A7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ensemble des données est distribué autour d’une valeur centra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5F54-0DC1-492D-89B8-BFC3CA1647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09480" y="1676520"/>
          <a:ext cx="8153640" cy="3825720"/>
        </p:xfrm>
        <a:graphic>
          <a:graphicData uri="http://schemas.openxmlformats.org/drawingml/2006/table">
            <a:tbl>
              <a:tblPr/>
              <a:tblGrid>
                <a:gridCol w="1981440"/>
                <a:gridCol w="617220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a le plus grand 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di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permet de partager la série en deux parties de même nombre d'élé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 arithmétique des résult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647A-2348-475B-A146-3FC324EFA7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es valeurs ne sont pas toutes les mêm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03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426888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5"/>
          <p:cNvSpPr/>
          <p:nvPr/>
        </p:nvSpPr>
        <p:spPr>
          <a:xfrm>
            <a:off x="4560840" y="23432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éd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2338560" y="1600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3490920" y="6095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EA54-3A06-4923-9D95-1680C4793C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fférencier justesse/exactitude et préc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le matériel de contrôle pour le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limites acceptables de contrôle pour une méthode lorsque seulement un niveau de matériel de contrôle est dispon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l’utilisation des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corriger les problèmes apparaissant « en dehors de tout contrôle 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AC71-62C1-4084-9DE9-C1D00D5A00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ymboles utilisé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mme 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=nombre de mes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= toutes les mesures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(1 à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X  représent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B9FF-B56C-41CA-9FCE-77C3C49AA9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" name="Rectangle 4"/>
          <p:cNvSpPr/>
          <p:nvPr/>
        </p:nvSpPr>
        <p:spPr>
          <a:xfrm>
            <a:off x="0" y="2881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  = Moy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Prem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Second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Dern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Nombre total de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5DA0-898E-4539-BCD5-5954D03B7E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Exemple</a:t>
            </a:r>
            <a:br>
              <a:rPr sz="1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: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est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ELISA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ez le contrôle 20 fois sur 30 jours. Enregistrer les valeurs de DO et les valeurs des cut off pour chaque mes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visez la DO par la CO (OD/CO) pour chaque point ou observation. Cela standardise les donné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ditionnez les ratios et divisez par le nombre de mesures pour obtenir la moyenn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9214-D301-4014-825F-658A2D6A3E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onnées présentant une valeur aberrante ou “outlier”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3729-F6D5-4998-A770-879D9B8C8F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tribution symétrique de toutes les valeurs autour de la moyen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e en cloche caractérist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umée pour toutes les statistiques du contrô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8"/>
          <p:cNvGrpSpPr/>
          <p:nvPr/>
        </p:nvGrpSpPr>
        <p:grpSpPr>
          <a:xfrm>
            <a:off x="5562720" y="3962520"/>
            <a:ext cx="3276360" cy="2286000"/>
            <a:chOff x="5562720" y="3962520"/>
            <a:chExt cx="3276360" cy="2286000"/>
          </a:xfrm>
        </p:grpSpPr>
        <p:sp>
          <p:nvSpPr>
            <p:cNvPr id="339" name="Freeform 9"/>
            <p:cNvSpPr/>
            <p:nvPr/>
          </p:nvSpPr>
          <p:spPr>
            <a:xfrm>
              <a:off x="5564520" y="3962520"/>
              <a:ext cx="3271320" cy="217116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0"/>
            <p:cNvSpPr/>
            <p:nvPr/>
          </p:nvSpPr>
          <p:spPr>
            <a:xfrm>
              <a:off x="5562720" y="6118200"/>
              <a:ext cx="3276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1"/>
            <p:cNvSpPr/>
            <p:nvPr/>
          </p:nvSpPr>
          <p:spPr>
            <a:xfrm>
              <a:off x="7200360" y="4070520"/>
              <a:ext cx="720" cy="2178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2"/>
          <p:cNvSpPr/>
          <p:nvPr/>
        </p:nvSpPr>
        <p:spPr>
          <a:xfrm rot="16200000">
            <a:off x="4109040" y="4881960"/>
            <a:ext cx="20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réqu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655308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A0DA-613E-45E7-B809-C3BB4BF4D9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e l’exactitude et la précision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533520" y="609480"/>
            <a:ext cx="8076960" cy="21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 contrôle qualité est utilisé pour vérifier l’exactitude et la précision d’une 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MCDD00744_0000[1]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4EDF-B41F-4364-AFBA-BFA248C691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1676520"/>
          <a:ext cx="8229600" cy="423072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itu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sultat de mesure qui est le plus proche de la valeur vrai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éc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Écart (fluctuation) des valeurs entre ell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ifférence entre le résultat attendu de l’analyse et une valeur de référence acceptée.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BC8F-8977-492E-9991-A0FB82B074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xactitude et Pré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57" name="Picture 59" descr="Untitled-2"/>
          <p:cNvPicPr/>
          <p:nvPr/>
        </p:nvPicPr>
        <p:blipFill>
          <a:blip r:embed="rId1"/>
          <a:stretch/>
        </p:blipFill>
        <p:spPr>
          <a:xfrm>
            <a:off x="457200" y="1446120"/>
            <a:ext cx="8001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0F9E-8EAB-48E8-9456-5DE6054426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Écart-type et probabilité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orsque les mesures sont normalement distribuées (distribution normale des valeurs), une valeur tombera dans l’interval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S : 68.3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2S : 95.5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3S : 99.7% du tem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364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365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6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7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Fré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    2s     -1s       Moyenne  +1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CEF0-80FA-4D40-9C88-DA6ADA3C5E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cart type (S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2306520" y="3124080"/>
                <a:ext cx="38736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9" name="Rectangle 6"/>
          <p:cNvSpPr/>
          <p:nvPr/>
        </p:nvSpPr>
        <p:spPr>
          <a:xfrm>
            <a:off x="304920" y="14479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 est la mesure principale de la dispersion utilisée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Écart-type – Formule stati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23AE-BD1C-47BC-B24E-D7F0F29B62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9" name="Picture 65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F844-0747-402B-8944-8CF63D702A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efficient de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efficient de variation (CV) est le S exprimé en pourcentage de la moyen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ntrôler la pré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mparer des méth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idéalement inférieur à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4"/>
              <p:cNvSpPr txBox="1"/>
              <p:nvPr/>
            </p:nvSpPr>
            <p:spPr>
              <a:xfrm>
                <a:off x="1752480" y="2514600"/>
                <a:ext cx="55897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yenn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8B38-D62D-4004-A033-0EEC88AC75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9" name="Text Box 118"/>
          <p:cNvSpPr/>
          <p:nvPr/>
        </p:nvSpPr>
        <p:spPr>
          <a:xfrm>
            <a:off x="685800" y="13716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Représentation graphique des intervalles des valeurs du contrôle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4F47-1F57-4D54-9C28-D11780419B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tatistiques pour le CQ Quantitatif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5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35900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228600" y="1676520"/>
            <a:ext cx="86104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sez le contrôle au moins 20 fois sur 20 à 30 j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’assurer que les variations liées aux fluctuations sont représen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lculez la moyenne et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+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1, 2 et 3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4127-50AD-4AFB-9B6B-7A8DAD79CE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racer des lignes pour la moyenne et les écarts types</a:t>
            </a:r>
            <a:br>
              <a:rPr sz="2800"/>
            </a:b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calculés à partir de 20 mesures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5"/>
          <p:cNvSpPr/>
          <p:nvPr/>
        </p:nvSpPr>
        <p:spPr>
          <a:xfrm flipH="1">
            <a:off x="228600" y="1600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om du diagram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6"/>
          <p:cNvSpPr/>
          <p:nvPr/>
        </p:nvSpPr>
        <p:spPr>
          <a:xfrm>
            <a:off x="4952880" y="1600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uméro de lo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9614-CE91-45B5-936F-C5BFBF3578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39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40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56"/>
          <p:cNvSpPr/>
          <p:nvPr/>
        </p:nvSpPr>
        <p:spPr>
          <a:xfrm>
            <a:off x="8367480" y="329256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57"/>
          <p:cNvSpPr/>
          <p:nvPr/>
        </p:nvSpPr>
        <p:spPr>
          <a:xfrm>
            <a:off x="8367480" y="28242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58"/>
          <p:cNvSpPr/>
          <p:nvPr/>
        </p:nvSpPr>
        <p:spPr>
          <a:xfrm>
            <a:off x="8367480" y="404352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59"/>
          <p:cNvSpPr/>
          <p:nvPr/>
        </p:nvSpPr>
        <p:spPr>
          <a:xfrm>
            <a:off x="8367480" y="45766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65"/>
          <p:cNvSpPr/>
          <p:nvPr/>
        </p:nvSpPr>
        <p:spPr>
          <a:xfrm>
            <a:off x="8367480" y="50338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66"/>
          <p:cNvSpPr/>
          <p:nvPr/>
        </p:nvSpPr>
        <p:spPr>
          <a:xfrm>
            <a:off x="8367480" y="23670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3"/>
          <p:cNvSpPr/>
          <p:nvPr/>
        </p:nvSpPr>
        <p:spPr>
          <a:xfrm>
            <a:off x="4038120" y="61531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55"/>
          <p:cNvSpPr/>
          <p:nvPr/>
        </p:nvSpPr>
        <p:spPr>
          <a:xfrm>
            <a:off x="68580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r les résultats des contrôles quotid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25E7-B3AF-4B65-A076-C2D11461B4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Nombre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interprétation dépend du nombre de contrôles passés avec les échantillons de pati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on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un niveau de contrôle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eptez les résultats si le contrôle est dans ± 2SD à moins d’un déplacement ou d’une ten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eux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deux niveaux de contrô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quez le système multi règles de Westg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5884-27CF-441B-A035-1A6FAE38B8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tection d’erreu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aléatoir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 dispersion des résultats de CQ sans motif – une seule cause de rejection si en dehors de 2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systématiqu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pas acceptable,  corriger la source de l’err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emple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placement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du même côté de la moyenne 6 jours consécu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Tenda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se déplaçant dans une direction – se dirige vers une val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96B5-D0DF-4BA3-9CA5-B712B94DD3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1200"/>
            </a:b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Déplacem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9319-4B28-41F3-A4CE-FB4E257715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Tend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A88D-92EE-4A3F-9E79-3F8A83C480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 de l’incertitud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valle de valeur dans lequel la valeur vraie peut raisonnablement se trouv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stimée à un niveau de confiance de 95%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la méthode est précise, plus faible est la quantité de dispersion dans l’intervalle de 9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a plupart des cas, un intervalle de +/- 2S est accepté comme mesure de l’incertitude, expliqué par la fluctuation aléatoire.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6C9C-C4F2-4727-9FC1-5D7D1E0D3F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ests Quantitati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esurent la quantité d’une substance particulière dans un échantillon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ntrôle qualité pour les tests quantitatifs est conçu pour s’assurer que les résultats sont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ac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iab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29DE-BDC8-4431-A120-7B648ABA64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Si CQ hors contrô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Arrêtez les 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z et corrigez le problè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passez les échantillons de patients et les contrôles après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as de compte-rendu des résultats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ant que le problème n’est pas résolu et que les contrôles ne sont pas corrects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36B5-F8ED-4837-B617-7E3A917119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oudre les problèm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problème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x lignes de conduite et procédures pour les actions de cor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9" name="Picture 4" descr="spy_guy"/>
          <p:cNvPicPr/>
          <p:nvPr/>
        </p:nvPicPr>
        <p:blipFill>
          <a:blip r:embed="rId1"/>
          <a:stretch/>
        </p:blipFill>
        <p:spPr>
          <a:xfrm>
            <a:off x="6400800" y="68580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4_log_book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3670-8686-4A49-851A-F20CD33903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Problèmes possib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es réactifs ou des ki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u matériel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manipulation de l’opér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ans le suivi des instructions du fabrica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de procédure dépassé, obsolèt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calibr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BB06-0C4A-4616-9658-8A698A9DCA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Un programme de contrôle qualité des tests quantitatifs est essentiel. Il devrait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touts les tests quantita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sséder des lignes de conduite et procédures écrites suivies pa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voir un responsable qualité contrôlant et révisant les données du C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e analyse statistique, conserver de bons enregistrement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ener à bien des actions correctives et de résolution de problè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space réservé du pied de page 3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EE0B-86CD-4CAC-B1A3-32DA3F43FE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de CQ permet au laboratoire de différencier les fluctuations normales des erreu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CQ contrôle l’exactitude et la précision des analyses du laboratoir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ésultats des patients ne devraient jamais être rendus si les résultats du contrôle qualité pour l’analyse en cours ne correspondent pas aux valeurs cibles du laboratoire.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7D80-3F0A-45F0-96DA-EAFB15EEAC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4640" y="213372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16" name="Picture 12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927000"/>
            <a:ext cx="51814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C7DC-D351-4300-BF0C-74B7E59725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Étapes de la mise en oeuvre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94920"/>
            <a:ext cx="8534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des lignes de conduite et des procédur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ttribuer les responsabilités, forme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du bon matériel de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intervalles et limites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velopper des graphiques pour relever les valeurs du contrôle -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les valeurs du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toutes les actions entrepris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AB74-26A7-43D6-889F-A040B3F091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’un contrôle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qui contient la substance à analys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s sont testés en même temps qu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é pour valider la fiabilité du système d’analys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après la calibration de l’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périodiquement pendant l’analy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ACC2-C98C-4E77-B281-3012F4FE08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ibrateurs ou Contrôles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56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6607-0758-4679-B943-BA5C10CD2D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Verdana"/>
              </a:rPr>
              <a:t>Calibrateurs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Substance avec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concentration spécifique.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Utilisés pour calibrer les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points de mesure sur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éch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ontrôles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ubstance similaire aux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s de patient, à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ne concentration établie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s pour s’assurer qu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 procédure fonctionn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orrec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162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213560" y="3897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16866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21438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2"/>
            <p:cNvSpPr/>
            <p:nvPr/>
          </p:nvSpPr>
          <p:spPr>
            <a:xfrm>
              <a:off x="267696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3"/>
            <p:cNvSpPr/>
            <p:nvPr/>
          </p:nvSpPr>
          <p:spPr>
            <a:xfrm>
              <a:off x="3362760" y="3885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175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31EE-9AB7-44B6-943A-0C0D4ABF0C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ractéristiques des contrôle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appropriés pour le test cibl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ponibles en grande quantité, idéalement suffisamment pour 1 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uvent être stockés dans de petits aliqu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5:59:41Z</dcterms:created>
  <dc:creator>exw2</dc:creator>
  <dc:description/>
  <dc:language>en-US</dc:language>
  <cp:lastModifiedBy>dolmazonv</cp:lastModifiedBy>
  <dcterms:modified xsi:type="dcterms:W3CDTF">2010-04-07T16:49:58Z</dcterms:modified>
  <cp:revision>621</cp:revision>
  <dc:subject/>
  <dc:title>Slide 1</dc:title>
</cp:coreProperties>
</file>